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3B1-10C6-4BC2-8BDE-D0E05971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E2C-F209-4999-83A9-805903B3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8AD-F3E3-4D5C-B832-57D6D7D6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CBF-057F-4DC9-B6F5-1A8061E1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0DD-0993-4C16-AE52-FDB5576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C6B-CFB8-4C25-80A2-B0064313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F91-2348-4E27-BD30-181C6C8A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EE2-E948-4EDA-A307-E73CC298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828-262F-4741-9F17-E2A18025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8D5-9AB1-4AF6-A871-371113A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BE3-E469-494C-8472-5593289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945-8B8D-4860-BDFA-2FADE2A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3521-9E82-4BFE-B4D3-9CD862B55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97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5181840" cy="65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0880" y="17128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3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848720" cy="27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7772400" cy="129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876920"/>
            <a:ext cx="57913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943600" cy="865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76964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162920" cy="39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3886200"/>
            <a:ext cx="9907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8458200" cy="1265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5715000"/>
            <a:ext cx="6781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0010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1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229600" cy="13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114300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114300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1066680"/>
            <a:ext cx="11430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9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24080" y="2819520"/>
            <a:ext cx="1752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20040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3809880"/>
            <a:ext cx="1752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91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105520"/>
            <a:ext cx="2667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57150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095880"/>
            <a:ext cx="8384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02:29Z</dcterms:created>
  <dc:creator>grahams</dc:creator>
  <dc:description/>
  <dc:language>en-US</dc:language>
  <cp:lastModifiedBy>grahams</cp:lastModifiedBy>
  <dcterms:modified xsi:type="dcterms:W3CDTF">2012-03-22T12:52:54Z</dcterms:modified>
  <cp:revision>2</cp:revision>
  <dc:subject/>
  <dc:title>Slide 1</dc:title>
</cp:coreProperties>
</file>